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move the slide</a:t>
            </a:r>
            <a:endParaRPr b="1" lang="en-US" sz="3000" spc="-1" strike="noStrike">
              <a:solidFill>
                <a:srgbClr val="000000"/>
              </a:solidFill>
              <a:latin typeface="EHUSerif"/>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3358-E7F5-433B-9CDA-B5AA6C2EE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F2E7-B89B-47C3-851C-C185977CD6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2B7FA-79F0-4B67-A80A-990FE4BFE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640B-8643-4499-B24D-58CA8DDA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77F4F-3180-4FF6-B5E5-14E305DC5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E2511-3153-459F-BF9B-45B8BEE87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F310F4-0C86-4BC3-87DA-D67470AABA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E929E0-9D22-4558-8298-277EB44664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87E4B0-B173-44E0-B1CE-070BA4798A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35893D-5983-4938-B823-DDF8C4AB0A5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D7D87F-AE59-41BB-95DD-7D0A60DEA7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6265FA-F6FC-456F-A84E-4C2F2A8A8B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B3D8B-D864-45A9-AFC7-FA32A82C72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F0BDD5-7CA5-413C-8702-4AC322DC04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C4EA9B-1C36-4B27-A94A-D0C6EC189A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D9DB3A-C88C-4D0F-BBD6-989B1537D04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EB1FC7F-A009-4DE5-BA2F-D0BAC84F010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EE37DA-87F8-413F-93AD-5D4D5372953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01D6FFC-E6F8-4961-AADB-9A7933C2189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13E709E-E60A-48C8-9701-8D838F74D04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54BD56-ED90-4C1B-87E2-B9118E962C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3EF121-8DD8-4FD1-A8DA-4CE2C123E40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6301274-0012-487E-8BF4-41C94C8B30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6E07164-C4F8-4DE0-A5C4-47CC11E0722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BE5E422-0683-4567-9D6F-3EA0310094F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92E4F64-F04B-46C6-9E44-303778F59CE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A7F3B1-17DA-4868-81B2-BE315BB2E08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0E9CC3B-ED24-4DBA-9198-203A9945AC4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A30EE42-E625-48A3-A663-0231310488E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58D16A9-D45C-436C-AB59-973540E1E3B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3DE70-AC84-4D66-BC2A-A566780AE1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FEEF9-2AF4-49A2-A658-68DCB92D595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1665A-24AE-456F-A97B-98A12833E2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22A31-DE81-41CF-8647-E9FD19B627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72EB0-2806-46D2-AAEB-26C0121B2B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A92C2-374B-48B7-80B7-CCDFF8060B5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4CA25-FED8-4079-941D-2780E49A71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6930D-3FF9-40C0-B006-923FE5D595B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82AAB-EC8B-46CB-9171-0D5555D9CCC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8A709-2447-425E-93C4-8349E51D86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E3821-148E-473C-BE2A-808CF26364B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F243C2-FB4F-44A8-A969-DB4D36DBDA3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7FB179E-20F6-46C7-93D5-9B175CF6F2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33F8ED08-9A02-4E31-828C-5A83CAAAAD0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B53F5656-0813-48AE-BF1F-AA43BBEF1F7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7ECDCB8F-87BD-4CA9-BA76-B8002FEFA05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sldNum" idx="13"/>
          </p:nvPr>
        </p:nvSpPr>
        <p:spPr/>
        <p:txBody>
          <a:bodyPr/>
          <a:p>
            <a:fld id="{BD85CB2A-40C2-4885-9DAA-484F854BC58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sldNum" idx="13"/>
          </p:nvPr>
        </p:nvSpPr>
        <p:spPr/>
        <p:txBody>
          <a:bodyPr/>
          <a:p>
            <a:fld id="{B6384E46-F2AC-4635-8D75-BC78E3D3B3F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456654EF-DEA5-42AE-8B3E-B6F6389A917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7785AD59-812D-43DB-AEB2-2759A26177A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FBC1C96B-DC7A-4F41-A390-5080F499D6A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D2C526AA-5CD4-429F-8438-A5FA0CB90E2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sldNum" idx="13"/>
          </p:nvPr>
        </p:nvSpPr>
        <p:spPr/>
        <p:txBody>
          <a:bodyPr/>
          <a:p>
            <a:fld id="{611E9CE0-C575-48FB-88D0-26038EB2F0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sldNum" idx="13"/>
          </p:nvPr>
        </p:nvSpPr>
        <p:spPr/>
        <p:txBody>
          <a:bodyPr/>
          <a:p>
            <a:fld id="{972818B0-A4C2-484A-A1FE-646B3BDCEE7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15B9A-4FD7-4C45-9D24-16A8DA61AE4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D6494-2D1F-4FD8-9EB1-EC8049DCC26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3B02D-946A-4569-9D4C-D59CD4E2C00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661657-04E1-4CAA-875C-05D61ACDDDE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D471BC-65B0-4CBD-98C2-0078D85FCEF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31D6B-EF94-4C99-A3C9-8F43568A451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09206-E4DC-4BAC-BAFE-EC88685B3D1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411CE-489F-4810-8C90-FE3B2C08893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FBFEA-4F58-4702-B306-3C792FAF31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640DB-C688-4344-8055-61D0F5E1CDE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F0CFA-8FBF-40FE-B254-6928FDBE1A4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B66EA6-D441-4036-B35F-FC07AD6CA27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8902007-6A97-4B3A-B5D8-A8B12FBF077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E24942-0791-4295-B68F-441CCD80F76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52DA80-2192-4ED6-8835-F7B059526DE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15BE82-EA75-4CAE-9601-29F33B2E428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EE069D-C24D-409A-9ED5-E3E5D9AFB5B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78DD4F-B609-49FC-AC89-DBE8D7826A0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FCA66E-67AC-4B3F-AE94-E08D3ADEC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B0AB9-A1B6-4F8D-8D3A-9F04EEF61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B42A75-6449-4C53-A2FA-BCCD6585320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4378F9-5385-44F6-B7CD-D8A7528E17E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1CBBCB-8DAF-4BE6-AC37-4E5830C2E92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E660BBB-DA66-445D-8862-B0D1E828C5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E76299C-7B3F-4550-8558-8AA924E72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476C-6E57-4B29-A94C-E916866A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49ED-D994-4E2D-9157-10482179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C440-1581-4D13-A3F3-310506A5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9136-DB6B-4799-8E5D-5E0EAA4C0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8920-EE7A-4D31-8BBC-8D700842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6417-E041-4869-BC56-4CABB065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D9F97-8821-4E3C-AFD9-09877AA962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03C5A-35BC-49C8-B54A-A477F8FA08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C29D9-1409-43B9-BA28-FD68D90D89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B2406-F29D-48FF-B9D0-B3014081AB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0EDC9-1AE1-4722-89B7-89679A72A9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AEDA-EAB2-4722-AEE4-D52E20D3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5F335-26C8-462A-9168-F4F37F9622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93E50-0DF9-4F65-B3F2-A874F7989F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23039-3F82-4F18-A620-62498D51B70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AAD64-325E-4669-A9AD-27226316E4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146BE-96C0-4CB3-9322-BE8BA382D99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B14F3-A6F2-4440-8E18-2D35E24392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69AC1-F4C8-421D-BD81-B1B1FE8C43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279D-C822-490A-9216-1C6FF29666A6}"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03" name="PlaceHolder 3"/>
          <p:cNvSpPr>
            <a:spLocks noGrp="1"/>
          </p:cNvSpPr>
          <p:nvPr>
            <p:ph type="ftr" idx="7"/>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463D-3B24-4B49-B871-09DC86712BC4}"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44" name="PlaceHolder 3"/>
          <p:cNvSpPr>
            <a:spLocks noGrp="1"/>
          </p:cNvSpPr>
          <p:nvPr>
            <p:ph type="ftr" idx="9"/>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92AE-1436-4170-87FF-A4F10371F8B5}"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85" name="PlaceHolder 3"/>
          <p:cNvSpPr>
            <a:spLocks noGrp="1"/>
          </p:cNvSpPr>
          <p:nvPr>
            <p:ph type="ftr" idx="11"/>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F658-5A12-4E23-822D-E26A6E492868}"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AFE1-B628-4468-B9EC-147D2BD334D4}"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66" name="PlaceHolder 3"/>
          <p:cNvSpPr>
            <a:spLocks noGrp="1"/>
          </p:cNvSpPr>
          <p:nvPr>
            <p:ph type="ftr" idx="14"/>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BFF9-2EA1-42C3-873C-E029C367E789}"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707" name="PlaceHolder 3"/>
          <p:cNvSpPr>
            <a:spLocks noGrp="1"/>
          </p:cNvSpPr>
          <p:nvPr>
            <p:ph type="ftr" idx="16"/>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001D-17CE-42E6-AB15-EF2A01A6588B}"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28" name="PlaceHolder 3"/>
          <p:cNvSpPr>
            <a:spLocks noGrp="1"/>
          </p:cNvSpPr>
          <p:nvPr>
            <p:ph type="ftr" idx="5"/>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73C6-8FCE-40A6-AF74-CC18C1DFA7A1}"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erif"/>
                <a:ea typeface="EHUSerif"/>
              </a:rPr>
              <a:t>TITULAR CON</a:t>
            </a:r>
            <a:br>
              <a:rPr sz="4000"/>
            </a:br>
            <a:r>
              <a:rPr b="1" lang="en-US" sz="4000" spc="-1" strike="noStrike">
                <a:solidFill>
                  <a:srgbClr val="f08a00"/>
                </a:solidFill>
                <a:latin typeface="EHUSerif"/>
                <a:ea typeface="EHUSerif"/>
              </a:rPr>
              <a:t>PALABRAS</a:t>
            </a:r>
            <a:br>
              <a:rPr sz="4000"/>
            </a:br>
            <a:r>
              <a:rPr b="1" lang="en-US" sz="4000" spc="-1" strike="noStrike">
                <a:solidFill>
                  <a:srgbClr val="f08a00"/>
                </a:solidFill>
                <a:latin typeface="EHUSerif"/>
                <a:ea typeface="EHUSerif"/>
              </a:rPr>
              <a:t>BASTANTE LARGAS</a:t>
            </a:r>
            <a:br>
              <a:rPr sz="4000"/>
            </a:br>
            <a:r>
              <a:rPr b="1" lang="en-US" sz="4000" spc="-1" strike="noStrike">
                <a:solidFill>
                  <a:srgbClr val="f08a00"/>
                </a:solidFill>
                <a:latin typeface="EHUSerif"/>
                <a:ea typeface="EHUSerif"/>
              </a:rPr>
              <a:t>DE EXTENSIÓN</a:t>
            </a:r>
            <a:br>
              <a:rPr sz="4000"/>
            </a:br>
            <a:r>
              <a:rPr b="1" lang="en-US" sz="4000" spc="-1" strike="noStrike">
                <a:solidFill>
                  <a:srgbClr val="f08a00"/>
                </a:solidFill>
                <a:latin typeface="EHUSerif"/>
                <a:ea typeface="EHUSerif"/>
              </a:rPr>
              <a:t>Y LÍNEAS</a:t>
            </a:r>
            <a:endParaRPr b="1" lang="en-US" sz="4000" spc="-1" strike="noStrike">
              <a:solidFill>
                <a:srgbClr val="000000"/>
              </a:solidFill>
              <a:latin typeface="EHUSerif"/>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TITULAR</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SECUNDARIO</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DEL DOCUMENTO</a:t>
            </a:r>
            <a:endParaRPr b="1" lang="en-US" sz="2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704E-D494-4306-8655-B76AFBA574EC}"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499920"/>
            <a:ext cx="2158920" cy="28908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Universidad de Bellas Artes</a:t>
            </a:r>
            <a:endParaRPr b="1" lang="en-US" sz="1000" spc="-1" strike="noStrike">
              <a:solidFill>
                <a:srgbClr val="000000"/>
              </a:solidFill>
              <a:latin typeface="EHUSerif"/>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944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223200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erif"/>
              </a:rPr>
              <a:t>00. INTRODUCCIÓN</a:t>
            </a:r>
            <a:endParaRPr b="1" lang="en-US" sz="1600" spc="-1" strike="noStrike">
              <a:solidFill>
                <a:srgbClr val="000000"/>
              </a:solidFill>
              <a:latin typeface="EHUSerif"/>
            </a:endParaRPr>
          </a:p>
        </p:txBody>
      </p:sp>
      <p:sp>
        <p:nvSpPr>
          <p:cNvPr id="755"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erif"/>
              </a:rPr>
              <a:t>01. PRIMERA SECCIÓN</a:t>
            </a:r>
            <a:endParaRPr b="1" lang="en-US" sz="1600" spc="-1" strike="noStrike">
              <a:solidFill>
                <a:srgbClr val="000000"/>
              </a:solidFill>
              <a:latin typeface="EHUSerif"/>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erif"/>
              </a:rPr>
              <a:t>02. SEGUNDA SECCIÓN</a:t>
            </a:r>
            <a:endParaRPr b="1" lang="en-US" sz="1600" spc="-1" strike="noStrike">
              <a:solidFill>
                <a:srgbClr val="000000"/>
              </a:solidFill>
              <a:latin typeface="EHUSerif"/>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erif"/>
              </a:rPr>
              <a:t>03. TERCERA SECCIÓN</a:t>
            </a:r>
            <a:endParaRPr b="1" lang="en-US" sz="1600" spc="-1" strike="noStrike">
              <a:solidFill>
                <a:srgbClr val="000000"/>
              </a:solidFill>
              <a:latin typeface="EHUSerif"/>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403F-AE13-4F5F-B830-294B38E99949}"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erif"/>
              </a:rPr>
              <a:t>01 TITULAR CON PALABRAS BASTANTE LARGAS DE EXTENSIÓN</a:t>
            </a:r>
            <a:endParaRPr b="1" lang="en-US" sz="4000" spc="-1" strike="noStrike">
              <a:solidFill>
                <a:srgbClr val="000000"/>
              </a:solidFill>
              <a:latin typeface="EHUSerif"/>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erif"/>
              </a:rPr>
              <a:t>SUBTITULAR O INFORMACIÓN RESUMIDA SOBRE ESTA SECCIÓN</a:t>
            </a:r>
            <a:endParaRPr b="1" lang="en-US" sz="1800" spc="-1" strike="noStrike">
              <a:solidFill>
                <a:srgbClr val="000000"/>
              </a:solidFill>
              <a:latin typeface="EHUSerif"/>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1" lang="en-US" sz="1000" spc="-1" strike="noStrike">
              <a:solidFill>
                <a:srgbClr val="000000"/>
              </a:solidFill>
              <a:latin typeface="EHUSerif"/>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erif"/>
              </a:rPr>
              <a:t>UPV/EHU |</a:t>
            </a:r>
            <a:endParaRPr b="1" lang="en-US" sz="1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erif"/>
              </a:rPr>
              <a:t>Texto destacado sobre el tema a tratar.</a:t>
            </a:r>
            <a:br>
              <a:rPr sz="3000"/>
            </a:br>
            <a:r>
              <a:rPr b="1" lang="es-ES_tradnl" sz="3000" spc="-1" strike="noStrike">
                <a:solidFill>
                  <a:srgbClr val="5a519a"/>
                </a:solidFill>
                <a:latin typeface="EHUSerif"/>
              </a:rPr>
              <a:t>La Universidad del País Vasco / Euskal </a:t>
            </a:r>
            <a:r>
              <a:rPr b="1" lang="en-US" sz="3000" spc="-1" strike="noStrike">
                <a:solidFill>
                  <a:srgbClr val="5a519a"/>
                </a:solidFill>
                <a:latin typeface="EHUSerif"/>
              </a:rPr>
              <a:t>Herriko Unibertsitatea es un microcosmos a pequeña escala, reflejo de la sociedad en la que se crea y se desarrolla.</a:t>
            </a:r>
            <a:endParaRPr b="1" lang="en-US" sz="3000" spc="-1" strike="noStrike">
              <a:solidFill>
                <a:srgbClr val="000000"/>
              </a:solidFill>
              <a:latin typeface="EHUSerif"/>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erif"/>
              </a:rPr>
              <a:t>Texto que desarrolla </a:t>
            </a:r>
            <a:r>
              <a:rPr b="1" lang="en-US" sz="1800" spc="-1" strike="noStrike">
                <a:solidFill>
                  <a:srgbClr val="000000"/>
                </a:solidFill>
                <a:latin typeface="EHUSerif"/>
              </a:rPr>
              <a:t>o complementa brevemente el texto destacado.</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Un mundo que adapta sus formas, que hace crecer sus ramas hacia</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donde encuentra una necesidad. que lo rodea.</a:t>
            </a:r>
            <a:endParaRPr b="1" lang="en-US" sz="1800" spc="-1" strike="noStrike">
              <a:solidFill>
                <a:srgbClr val="000000"/>
              </a:solidFill>
              <a:latin typeface="EHUSerif"/>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uno detallado. Un mundo que adapta sus formas, que hace crecer sus ramas hacia donde</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erif"/>
              </a:rPr>
              <a:t>encuentra una necesidad.</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dos detallado. Un complejo y enriquecedor mundo de docencia, conocimiento y sabiduría, facto</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de progreso y semilla para el futuro de la sociedad que lo rodea.</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tres detallado. Para ello, las bases sobre las que se asienta este mundo debe ser sólidas, fuertes, </a:t>
            </a:r>
            <a:r>
              <a:rPr b="0" lang="en-US" sz="1300" spc="-1" strike="noStrike">
                <a:solidFill>
                  <a:srgbClr val="000000"/>
                </a:solidFill>
                <a:latin typeface="EHUSerif"/>
              </a:rPr>
              <a:t>compactas.</a:t>
            </a:r>
            <a:endParaRPr b="1" lang="en-US" sz="1300" spc="-1" strike="noStrike">
              <a:solidFill>
                <a:srgbClr val="000000"/>
              </a:solidFill>
              <a:latin typeface="EHUSerif"/>
            </a:endParaRPr>
          </a:p>
        </p:txBody>
      </p:sp>
      <p:sp>
        <p:nvSpPr>
          <p:cNvPr id="770" name="8 Marcador de pie de página"/>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5550-32B8-4C1D-A3B6-066193F03F1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3"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erif"/>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erif"/>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2D46-03DB-4BCE-A40E-AB7E3E4C869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pic>
        <p:nvPicPr>
          <p:cNvPr id="776" name="Picture Placeholder 3"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8"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Listad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9274-BAA4-464A-920D-875058ADC82E}"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erif"/>
              </a:rPr>
              <a:t>T</a:t>
            </a:r>
            <a:r>
              <a:rPr b="1" lang="en-US" sz="2800" spc="-1" strike="noStrike">
                <a:solidFill>
                  <a:srgbClr val="000000"/>
                </a:solidFill>
                <a:latin typeface="EHUSerif"/>
              </a:rPr>
              <a:t>í</a:t>
            </a:r>
            <a:r>
              <a:rPr b="1" lang="es-ES_tradnl" sz="2800" spc="-1" strike="noStrike">
                <a:solidFill>
                  <a:srgbClr val="000000"/>
                </a:solidFill>
                <a:latin typeface="EHUSerif"/>
              </a:rPr>
              <a:t>tulo del apartado</a:t>
            </a:r>
            <a:endParaRPr b="1" lang="en-US" sz="2800" spc="-1" strike="noStrike">
              <a:solidFill>
                <a:srgbClr val="000000"/>
              </a:solidFill>
              <a:latin typeface="EHUSerif"/>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erif"/>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363E-A6FC-41CE-8CC9-57DBB2636E45}"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D33E-7203-40C9-85B9-DD91B0255E52}"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0A22-0875-4066-A1A6-3C80230F904C}"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erif"/>
              </a:rPr>
              <a:t>Facultad de Ciencias de la actividad física del deporte</a:t>
            </a:r>
            <a:endParaRPr b="1" lang="en-US" sz="13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5:42Z</dcterms:modified>
  <cp:revision>48</cp:revision>
  <dc:subject/>
  <dc:title>Presentación de PowerPoint</dc:title>
</cp:coreProperties>
</file>