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s/comment1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Elena" initials="E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<Relationship Id="rId19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10-25T18:56:33.911000000" idx="1">
    <p:pos x="6363" y="3651"/>
    <p:text/>
  </p:cm>
</p:cmLst>
</file>

<file path=ppt/comments/comment13.xml><?xml version="1.0" encoding="utf-8"?>
<p:cmLst xmlns:p="http://schemas.openxmlformats.org/presentationml/2006/main">
  <p:cm authorId="0" dt="2011-10-25T18:56:33.911000000" idx="2">
    <p:pos x="6363" y="3651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E9F7-BF66-4696-9D21-6B395036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79280" y="4292640"/>
            <a:ext cx="6553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79280" y="5208480"/>
            <a:ext cx="6553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91D9-562C-4324-808B-35000D42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79280" y="429264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7360" y="429264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79280" y="520848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7360" y="520848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98AB-E82E-43E6-BF34-BE93D575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79280" y="429264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5080" y="429264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0880" y="429264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79280" y="520848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5080" y="520848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0880" y="520848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0C61-BBE1-4655-BB50-2FB3BD93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35A7-B2B1-4BDB-8792-688940A6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79280" y="4292640"/>
            <a:ext cx="6553080" cy="17524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51BC-DD0A-4FE9-8168-9AECB184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79280" y="429264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1696-9687-48F4-A55F-F8366883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79280" y="429264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7360" y="429264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9E57-C3A6-45F8-B0A0-E0EDCD9C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CB33-D012-4AD6-ADF7-FA9B7192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1CB7-BC21-49AD-B658-B49511C7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79280" y="429264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7360" y="429264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79280" y="520848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7420-C8DF-4B0F-824E-FE5D2385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79280" y="4292640"/>
            <a:ext cx="6553080" cy="17524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F184-5495-4904-BAD9-35486F0A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79280" y="429264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429264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7360" y="520848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6174-9EA8-464D-BEE7-B42B5508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79280" y="429264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7360" y="429264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79280" y="5208480"/>
            <a:ext cx="6553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A6A9-4F59-4D3C-AEA0-92A0AD76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79280" y="4292640"/>
            <a:ext cx="6553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79280" y="5208480"/>
            <a:ext cx="6553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80D4-3FB6-4281-9DCD-9F90BF5E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79280" y="429264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7360" y="429264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79280" y="520848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7360" y="520848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F98B-AB2C-4D55-BD96-16D5DF9C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79280" y="429264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95080" y="429264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10880" y="429264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79280" y="520848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95080" y="520848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10880" y="520848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DED7-72AD-4C84-9133-8539B8A6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6EEB5-9490-4BCD-B480-675F990A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79280" y="4292640"/>
            <a:ext cx="6553080" cy="17524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7962C-774E-4C90-8C74-49776EB7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79280" y="429264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856B1-DB96-4CF5-919F-081EEB4A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79280" y="429264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37360" y="429264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5C670-95E0-4C4F-B04F-E846EB3A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A9F5D-F3D0-416D-B330-123B4BB5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79280" y="429264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113D-C1C8-4B12-81B9-EE1C0154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74054-C04E-4333-98DA-DA93CB95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79280" y="429264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37360" y="429264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979280" y="520848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1B3DA-9046-4AB9-B7E7-461D754D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79280" y="429264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7360" y="429264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7360" y="520848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A74AF-4899-453A-904A-D5B5B84D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79280" y="429264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7360" y="429264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979280" y="5208480"/>
            <a:ext cx="6553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8D8B1-BB56-4B29-B964-68A96D0C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79280" y="4292640"/>
            <a:ext cx="6553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979280" y="5208480"/>
            <a:ext cx="6553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D5A0A-B74F-4A78-906A-E890C9DA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79280" y="429264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37360" y="429264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79280" y="520848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7360" y="520848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436F5-221C-43B5-B423-5A44E676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79280" y="429264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195080" y="429264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10880" y="429264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979280" y="520848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195080" y="520848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10880" y="520848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D2AF6-FA0A-406D-AAA6-35E6C239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79280" y="429264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7360" y="429264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22F9-A553-4917-9007-FC281052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B00D-378F-452C-B1A8-0065562B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B7B7-5F4E-4B2B-ACBA-F190B2B6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79280" y="429264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7360" y="429264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79280" y="520848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B005-F3C8-474A-B1B8-1CA33CB6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79280" y="429264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7360" y="429264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7360" y="520848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7107-E369-47EE-B8FC-EE602D55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79280" y="429264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429264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79280" y="5208480"/>
            <a:ext cx="6553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6CF8-1F07-43A5-A66D-4D83E756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2AEA-00AE-428E-9A3B-BE4D211FA269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890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6165720"/>
            <a:ext cx="822960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2273-3CC3-4063-9B16-7599A18DDAA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557360"/>
            <a:ext cx="792468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84360" y="3962160"/>
            <a:ext cx="7808760" cy="428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5B07-B427-497F-BCD7-05ABEF46D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comments" Target="../comments/commen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Investigación en la UPV/EHU sobre inmigración/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Immigraziari buruzko Ikerketak UPV/EHU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43280" y="638172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bao, 26 Octubr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8053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b812f"/>
                </a:solidFill>
                <a:latin typeface="Arial"/>
                <a:ea typeface="ＭＳ Ｐゴシック"/>
              </a:rPr>
              <a:t>Encuentro Sectorial</a:t>
            </a:r>
            <a:r>
              <a:rPr b="0" lang="en-GB" sz="16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 </a:t>
            </a:r>
            <a:r>
              <a:rPr b="0" lang="en-GB" sz="1400" spc="-1" strike="noStrike">
                <a:solidFill>
                  <a:srgbClr val="3b812f"/>
                </a:solidFill>
                <a:latin typeface="Arial"/>
                <a:ea typeface="ＭＳ Ｐゴシック"/>
              </a:rPr>
              <a:t>Universidad-Empresa </a:t>
            </a:r>
            <a:r>
              <a:rPr b="0" lang="en-GB" sz="1400" spc="-1" strike="noStrike">
                <a:solidFill>
                  <a:srgbClr val="3b812f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3b812f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3b812f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3b812f"/>
                </a:solidFill>
                <a:latin typeface="Arial"/>
              </a:rPr>
              <a:t>Unibertsitatea-Enpresa Sektore Topak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780000" y="3789360"/>
            <a:ext cx="1152360" cy="2448000"/>
          </a:xfrm>
          <a:prstGeom prst="rect">
            <a:avLst/>
          </a:prstGeom>
          <a:ln w="0">
            <a:noFill/>
          </a:ln>
        </p:spPr>
      </p:pic>
      <p:sp>
        <p:nvSpPr>
          <p:cNvPr id="131" name="Document"/>
          <p:cNvSpPr/>
          <p:nvPr/>
        </p:nvSpPr>
        <p:spPr>
          <a:xfrm>
            <a:off x="611280" y="1628640"/>
            <a:ext cx="7848360" cy="1871640"/>
          </a:xfrm>
          <a:prstGeom prst="pie">
            <a:avLst/>
          </a:prstGeom>
          <a:solidFill>
            <a:srgbClr val="660066"/>
          </a:solidFill>
          <a:ln w="9360">
            <a:solidFill>
              <a:srgbClr val="d7e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ARROLLAR ESTRATEGIAS ADECUADAS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AS ALLÁ DE MEJORAR EL ACCESO A LOS SERVICIOS DE SALU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PARA CONSEGUIR EQUIDAD EN LA UTILIZACIÓN DE LOS SERVICIOS SANITARIOS Y REDUCIR LAS DESIGUALDADES EN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1187280" y="764640"/>
            <a:ext cx="7561440" cy="2663640"/>
            <a:chOff x="1187280" y="764640"/>
            <a:chExt cx="7561440" cy="2663640"/>
          </a:xfrm>
        </p:grpSpPr>
        <p:sp>
          <p:nvSpPr>
            <p:cNvPr id="226" name=""/>
            <p:cNvSpPr/>
            <p:nvPr/>
          </p:nvSpPr>
          <p:spPr>
            <a:xfrm flipV="1">
              <a:off x="8748720" y="764640"/>
              <a:ext cx="0" cy="26636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87280" y="765000"/>
              <a:ext cx="756144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Document"/>
          <p:cNvSpPr/>
          <p:nvPr/>
        </p:nvSpPr>
        <p:spPr>
          <a:xfrm>
            <a:off x="900000" y="1052640"/>
            <a:ext cx="3168720" cy="1368360"/>
          </a:xfrm>
          <a:prstGeom prst="pie">
            <a:avLst/>
          </a:prstGeom>
          <a:solidFill>
            <a:srgbClr val="d7e09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9d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ALUD  PERCIBIDA ES BUENA EN LA POBL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MIGR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Document"/>
          <p:cNvSpPr/>
          <p:nvPr/>
        </p:nvSpPr>
        <p:spPr>
          <a:xfrm>
            <a:off x="4859280" y="1125360"/>
            <a:ext cx="3168720" cy="1440000"/>
          </a:xfrm>
          <a:prstGeom prst="pie">
            <a:avLst/>
          </a:prstGeom>
          <a:solidFill>
            <a:srgbClr val="d7e09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9d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DESVENTAJA EN SALUD: MUJER Y SER DE MAGREB Y AFRICA SUBSAHAR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080" y="6264360"/>
            <a:ext cx="9070920" cy="353160"/>
          </a:xfrm>
          <a:prstGeom prst="rect">
            <a:avLst/>
          </a:prstGeom>
          <a:solidFill>
            <a:srgbClr val="808080"/>
          </a:solidFill>
          <a:ln w="381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MONITORIZACIÓN DE  LA SITUACIÓN DE SALUD EN LOS INMIGRANTES EUSKAD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Document"/>
          <p:cNvSpPr/>
          <p:nvPr/>
        </p:nvSpPr>
        <p:spPr>
          <a:xfrm>
            <a:off x="826920" y="3933720"/>
            <a:ext cx="3240360" cy="1440000"/>
          </a:xfrm>
          <a:prstGeom prst="pie">
            <a:avLst/>
          </a:prstGeom>
          <a:solidFill>
            <a:srgbClr val="d7e09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9d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A DIFERENCIAL EN LA UTILIZACIÓN DE LOS SERVICIOS DE SAL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Document"/>
          <p:cNvSpPr/>
          <p:nvPr/>
        </p:nvSpPr>
        <p:spPr>
          <a:xfrm>
            <a:off x="4788000" y="3933720"/>
            <a:ext cx="3240000" cy="1440000"/>
          </a:xfrm>
          <a:prstGeom prst="pie">
            <a:avLst/>
          </a:prstGeom>
          <a:solidFill>
            <a:srgbClr val="d7e09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9d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OYO SOCIAL CLAVE EN LAS DESIGUALDADES EN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8360" y="26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¿dónde estamos aho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66200" y="3284640"/>
            <a:ext cx="1800" cy="25207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6560" y="5802480"/>
            <a:ext cx="619308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1187280" y="836640"/>
            <a:ext cx="7561440" cy="2663280"/>
            <a:chOff x="1187280" y="836640"/>
            <a:chExt cx="7561440" cy="2663280"/>
          </a:xfrm>
        </p:grpSpPr>
        <p:sp>
          <p:nvSpPr>
            <p:cNvPr id="237" name=""/>
            <p:cNvSpPr/>
            <p:nvPr/>
          </p:nvSpPr>
          <p:spPr>
            <a:xfrm flipV="1">
              <a:off x="8748720" y="836640"/>
              <a:ext cx="0" cy="26632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87280" y="836640"/>
              <a:ext cx="756144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Document"/>
          <p:cNvSpPr/>
          <p:nvPr/>
        </p:nvSpPr>
        <p:spPr>
          <a:xfrm>
            <a:off x="900000" y="1484280"/>
            <a:ext cx="3095640" cy="1513080"/>
          </a:xfrm>
          <a:prstGeom prst="pie">
            <a:avLst/>
          </a:prstGeom>
          <a:solidFill>
            <a:srgbClr val="d7e09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9d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RERAS ACCESO A LA SALUD RELACIONADAS CON LAS ESTRUCTURA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826920" y="3789360"/>
            <a:ext cx="3240360" cy="1511280"/>
          </a:xfrm>
          <a:prstGeom prst="pie">
            <a:avLst/>
          </a:prstGeom>
          <a:solidFill>
            <a:srgbClr val="d7e09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9d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NTES DE SALUD RELACIONADOS CON LA DISCRIMINACIÓN Y EL APOYO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0720" cy="1584360"/>
          </a:xfrm>
          <a:prstGeom prst="rect">
            <a:avLst/>
          </a:prstGeom>
          <a:ln w="0">
            <a:noFill/>
          </a:ln>
        </p:spPr>
      </p:pic>
      <p:sp>
        <p:nvSpPr>
          <p:cNvPr id="242" name="Document"/>
          <p:cNvSpPr/>
          <p:nvPr/>
        </p:nvSpPr>
        <p:spPr>
          <a:xfrm>
            <a:off x="5292720" y="1557360"/>
            <a:ext cx="2879640" cy="1295280"/>
          </a:xfrm>
          <a:prstGeom prst="pie">
            <a:avLst/>
          </a:prstGeom>
          <a:solidFill>
            <a:srgbClr val="d7e09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9d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EMASIADADO INTERES POR LA MEDICINA PREVEN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Document"/>
          <p:cNvSpPr/>
          <p:nvPr/>
        </p:nvSpPr>
        <p:spPr>
          <a:xfrm>
            <a:off x="5005440" y="3789360"/>
            <a:ext cx="3095640" cy="1512720"/>
          </a:xfrm>
          <a:prstGeom prst="pie">
            <a:avLst/>
          </a:prstGeom>
          <a:solidFill>
            <a:srgbClr val="d7e09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9d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S DE CONTROL DE NIÑO SANO: AREA CON ESPECIAL POT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66200" y="3284640"/>
            <a:ext cx="1800" cy="25207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8360" y="5805360"/>
            <a:ext cx="77040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080" y="6264360"/>
            <a:ext cx="8820000" cy="368280"/>
          </a:xfrm>
          <a:prstGeom prst="rect">
            <a:avLst/>
          </a:prstGeom>
          <a:solidFill>
            <a:srgbClr val="808080"/>
          </a:solidFill>
          <a:ln w="381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PROGRAMAS DE PREVENCIÓN Y PROMOCIÓN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8360" y="26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¿dónde estamos aho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1187280" y="836640"/>
            <a:ext cx="7561440" cy="2663280"/>
            <a:chOff x="1187280" y="836640"/>
            <a:chExt cx="7561440" cy="2663280"/>
          </a:xfrm>
        </p:grpSpPr>
        <p:sp>
          <p:nvSpPr>
            <p:cNvPr id="249" name=""/>
            <p:cNvSpPr/>
            <p:nvPr/>
          </p:nvSpPr>
          <p:spPr>
            <a:xfrm flipV="1">
              <a:off x="8748720" y="836640"/>
              <a:ext cx="0" cy="26632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87280" y="836640"/>
              <a:ext cx="756144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 flipH="1">
            <a:off x="466200" y="3284640"/>
            <a:ext cx="1800" cy="25207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6560" y="5802480"/>
            <a:ext cx="619308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20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26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APL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8459640" y="5273640"/>
            <a:ext cx="720720" cy="1584360"/>
          </a:xfrm>
          <a:prstGeom prst="rect">
            <a:avLst/>
          </a:prstGeom>
          <a:ln w="0">
            <a:noFill/>
          </a:ln>
        </p:spPr>
      </p:pic>
      <p:sp>
        <p:nvSpPr>
          <p:cNvPr id="256" name="Document"/>
          <p:cNvSpPr/>
          <p:nvPr/>
        </p:nvSpPr>
        <p:spPr>
          <a:xfrm>
            <a:off x="1042920" y="1268280"/>
            <a:ext cx="6697800" cy="432000"/>
          </a:xfrm>
          <a:prstGeom prst="pie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OLITICAS PÚBLIC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8360" y="191628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S LAS LINEAS DE TRABAJO ESTAN RECOGIDAS EN LAS DIRECTRICES Y MEDIDAS DEL I Y II PLAN DE INMIGRACIÓN EN EL  ÁREA SANI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1280" y="3141720"/>
            <a:ext cx="75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RACIÓN DE CONOCIMIENT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660066"/>
                </a:solidFill>
                <a:latin typeface="Arial"/>
                <a:ea typeface="Arial"/>
              </a:rPr>
              <a:t>EQUIDAD EN SALUD: </a:t>
            </a:r>
            <a:r>
              <a:rPr b="0" lang="es-ES" sz="1800" spc="-1" strike="noStrike">
                <a:solidFill>
                  <a:srgbClr val="660066"/>
                </a:solidFill>
                <a:latin typeface="Arial"/>
                <a:ea typeface="Arial"/>
              </a:rPr>
              <a:t>Principio del S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spon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cces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cept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DUCCIÓN DE LAS DESIGUALDADES EN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Investigación en la UPV/EHU sobre inmigración/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Immigraziari buruzko Ikerketak UPV/EHU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638172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bao, 26 Octubr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58053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b812f"/>
                </a:solidFill>
                <a:latin typeface="Arial"/>
                <a:ea typeface="ＭＳ Ｐゴシック"/>
              </a:rPr>
              <a:t>Encuentro Sectorial</a:t>
            </a:r>
            <a:r>
              <a:rPr b="0" lang="en-GB" sz="16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 </a:t>
            </a:r>
            <a:r>
              <a:rPr b="0" lang="en-GB" sz="1400" spc="-1" strike="noStrike">
                <a:solidFill>
                  <a:srgbClr val="3b812f"/>
                </a:solidFill>
                <a:latin typeface="Arial"/>
                <a:ea typeface="ＭＳ Ｐゴシック"/>
              </a:rPr>
              <a:t>Universidad-Empresa </a:t>
            </a:r>
            <a:r>
              <a:rPr b="0" lang="en-GB" sz="1400" spc="-1" strike="noStrike">
                <a:solidFill>
                  <a:srgbClr val="3b812f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3b812f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3b812f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3b812f"/>
                </a:solidFill>
                <a:latin typeface="Arial"/>
              </a:rPr>
              <a:t>Unibertsitatea-Enpresa Sektore Topak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780000" y="3789360"/>
            <a:ext cx="1152360" cy="2448000"/>
          </a:xfrm>
          <a:prstGeom prst="rect">
            <a:avLst/>
          </a:prstGeom>
          <a:ln w="0">
            <a:noFill/>
          </a:ln>
        </p:spPr>
      </p:pic>
      <p:sp>
        <p:nvSpPr>
          <p:cNvPr id="263" name="Document"/>
          <p:cNvSpPr/>
          <p:nvPr/>
        </p:nvSpPr>
        <p:spPr>
          <a:xfrm>
            <a:off x="611280" y="1628640"/>
            <a:ext cx="7848360" cy="1871640"/>
          </a:xfrm>
          <a:prstGeom prst="pie">
            <a:avLst/>
          </a:prstGeom>
          <a:solidFill>
            <a:srgbClr val="660066"/>
          </a:solidFill>
          <a:ln w="9360">
            <a:solidFill>
              <a:srgbClr val="d7e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ARROLLAR ESTRATEGIAS ADECUADAS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AS ALLÁ DE MEJORAR EL ACCESO A LOS SERVICIOS DE SALU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PARA CONSEGUIR EQUIDAD EN LA UTILIZACIÓN DE LOS SERVICIOS SANITARIOS Y REDUCIR LAS DESIGUALDADES EN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1187280" y="909720"/>
            <a:ext cx="7705440" cy="2663280"/>
            <a:chOff x="1187280" y="909720"/>
            <a:chExt cx="7705440" cy="2663280"/>
          </a:xfrm>
        </p:grpSpPr>
        <p:sp>
          <p:nvSpPr>
            <p:cNvPr id="133" name=""/>
            <p:cNvSpPr/>
            <p:nvPr/>
          </p:nvSpPr>
          <p:spPr>
            <a:xfrm flipV="1">
              <a:off x="8892720" y="909720"/>
              <a:ext cx="0" cy="26632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87280" y="909720"/>
              <a:ext cx="770544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 flipH="1">
            <a:off x="466200" y="3284640"/>
            <a:ext cx="1800" cy="25207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6560" y="5802480"/>
            <a:ext cx="619308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423280" y="5273640"/>
            <a:ext cx="720720" cy="1584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227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268280"/>
            <a:ext cx="813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19700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66"/>
                </a:solidFill>
                <a:latin typeface="Arial"/>
              </a:rPr>
              <a:t>IMISATE: 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400" spc="-1" strike="noStrike">
                <a:solidFill>
                  <a:srgbClr val="660066"/>
                </a:solidFill>
                <a:latin typeface="Arial"/>
              </a:rPr>
              <a:t>M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ración y </a:t>
            </a:r>
            <a:r>
              <a:rPr b="0" lang="es-ES_tradnl" sz="2400" spc="-1" strike="noStrike">
                <a:solidFill>
                  <a:srgbClr val="660066"/>
                </a:solidFill>
                <a:latin typeface="Arial"/>
              </a:rPr>
              <a:t>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ud </a:t>
            </a:r>
            <a:r>
              <a:rPr b="0" lang="es-ES_tradnl" sz="2400" spc="-1" strike="noStrike">
                <a:solidFill>
                  <a:srgbClr val="660066"/>
                </a:solidFill>
                <a:latin typeface="Arial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nscultural en </a:t>
            </a:r>
            <a:r>
              <a:rPr b="0" lang="es-ES_tradnl" sz="24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kadi (</a:t>
            </a:r>
            <a:r>
              <a:rPr b="0" lang="es-ES" sz="2000" spc="-1" strike="noStrike">
                <a:solidFill>
                  <a:srgbClr val="660066"/>
                </a:solidFill>
                <a:latin typeface="Arial"/>
              </a:rPr>
              <a:t>200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ttp:www//imisate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94"/>
          <p:cNvGrpSpPr/>
          <p:nvPr/>
        </p:nvGrpSpPr>
        <p:grpSpPr>
          <a:xfrm>
            <a:off x="250920" y="2133720"/>
            <a:ext cx="4320000" cy="2589840"/>
            <a:chOff x="250920" y="2133720"/>
            <a:chExt cx="4320000" cy="2589840"/>
          </a:xfrm>
        </p:grpSpPr>
        <p:grpSp>
          <p:nvGrpSpPr>
            <p:cNvPr id="142" name="Group 195"/>
            <p:cNvGrpSpPr/>
            <p:nvPr/>
          </p:nvGrpSpPr>
          <p:grpSpPr>
            <a:xfrm>
              <a:off x="250920" y="2133720"/>
              <a:ext cx="4320000" cy="2589840"/>
              <a:chOff x="250920" y="2133720"/>
              <a:chExt cx="4320000" cy="2589840"/>
            </a:xfrm>
          </p:grpSpPr>
          <p:sp>
            <p:nvSpPr>
              <p:cNvPr id="143" name="Freeform 196"/>
              <p:cNvSpPr/>
              <p:nvPr/>
            </p:nvSpPr>
            <p:spPr>
              <a:xfrm>
                <a:off x="2298960" y="2177640"/>
                <a:ext cx="2271960" cy="1376280"/>
              </a:xfrm>
              <a:prstGeom prst="pie">
                <a:avLst/>
              </a:prstGeom>
              <a:solidFill>
                <a:srgbClr val="99cc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97"/>
              <p:cNvSpPr/>
              <p:nvPr/>
            </p:nvSpPr>
            <p:spPr>
              <a:xfrm>
                <a:off x="250920" y="2133720"/>
                <a:ext cx="2634480" cy="1189080"/>
              </a:xfrm>
              <a:prstGeom prst="pie">
                <a:avLst/>
              </a:prstGeom>
              <a:solidFill>
                <a:srgbClr val="00cc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98"/>
              <p:cNvSpPr/>
              <p:nvPr/>
            </p:nvSpPr>
            <p:spPr>
              <a:xfrm>
                <a:off x="568800" y="2812320"/>
                <a:ext cx="2759400" cy="1911240"/>
              </a:xfrm>
              <a:prstGeom prst="pie">
                <a:avLst/>
              </a:prstGeom>
              <a:solidFill>
                <a:srgbClr val="cc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Text Box 199"/>
            <p:cNvSpPr/>
            <p:nvPr/>
          </p:nvSpPr>
          <p:spPr>
            <a:xfrm>
              <a:off x="1430640" y="2292840"/>
              <a:ext cx="110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Univers"/>
                </a:rPr>
                <a:t>B</a:t>
              </a:r>
              <a:r>
                <a:rPr b="1" lang="es-ES_tradnl" sz="1600" spc="-1" strike="noStrike">
                  <a:solidFill>
                    <a:srgbClr val="0033cc"/>
                  </a:solidFill>
                  <a:latin typeface="Univers"/>
                </a:rPr>
                <a:t>IZKA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00"/>
            <p:cNvSpPr/>
            <p:nvPr/>
          </p:nvSpPr>
          <p:spPr>
            <a:xfrm>
              <a:off x="2694240" y="261504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Univers"/>
                </a:rPr>
                <a:t>G</a:t>
              </a:r>
              <a:r>
                <a:rPr b="1" lang="es-ES_tradnl" sz="1600" spc="-1" strike="noStrike">
                  <a:solidFill>
                    <a:srgbClr val="0033cc"/>
                  </a:solidFill>
                  <a:latin typeface="Univers"/>
                </a:rPr>
                <a:t>IPUZKO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01"/>
            <p:cNvSpPr/>
            <p:nvPr/>
          </p:nvSpPr>
          <p:spPr>
            <a:xfrm>
              <a:off x="1727280" y="3591720"/>
              <a:ext cx="95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Univers"/>
                </a:rPr>
                <a:t>A</a:t>
              </a:r>
              <a:r>
                <a:rPr b="1" lang="es-ES_tradnl" sz="1800" spc="-1" strike="noStrike">
                  <a:solidFill>
                    <a:srgbClr val="0033cc"/>
                  </a:solidFill>
                  <a:latin typeface="Univers"/>
                </a:rPr>
                <a:t>R</a:t>
              </a:r>
              <a:r>
                <a:rPr b="1" lang="es-ES_tradnl" sz="1600" spc="-1" strike="noStrike">
                  <a:solidFill>
                    <a:srgbClr val="0033cc"/>
                  </a:solidFill>
                  <a:latin typeface="Univers"/>
                </a:rPr>
                <a:t>AB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4211640" y="2708280"/>
            <a:ext cx="41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66"/>
                </a:solidFill>
                <a:latin typeface="Arial"/>
              </a:rPr>
              <a:t>Abordar desde el ámbito de la investigación la situación de salud de los diferentes grupos de inmigrantes en Euska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26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¿quienes som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3040" y="5805360"/>
            <a:ext cx="52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o: Determinantes Sociales de la Salud (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87280" y="836640"/>
            <a:ext cx="7561440" cy="2663280"/>
            <a:chOff x="1187280" y="836640"/>
            <a:chExt cx="7561440" cy="2663280"/>
          </a:xfrm>
        </p:grpSpPr>
        <p:sp>
          <p:nvSpPr>
            <p:cNvPr id="153" name=""/>
            <p:cNvSpPr/>
            <p:nvPr/>
          </p:nvSpPr>
          <p:spPr>
            <a:xfrm flipV="1">
              <a:off x="8748720" y="836640"/>
              <a:ext cx="0" cy="26632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87280" y="836640"/>
              <a:ext cx="756144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 flipH="1">
            <a:off x="466200" y="3284640"/>
            <a:ext cx="1800" cy="25207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6560" y="5802480"/>
            <a:ext cx="619308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459640" y="5273640"/>
            <a:ext cx="720720" cy="1584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220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1268280"/>
            <a:ext cx="813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26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¿quienes som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339640" y="1917360"/>
            <a:ext cx="62643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fenómeno migratorio genera cambios cuantitativos y cualitativos en los perfiles sociales, demográficos y culturales de las poblacion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senso sobre el origen de las desigualdades en salud: políticas, económicas y sociales. Las personas más desfavorecidas padecen más enfermedades, mayor discapacidad  y viven men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ocument"/>
          <p:cNvSpPr/>
          <p:nvPr/>
        </p:nvSpPr>
        <p:spPr>
          <a:xfrm>
            <a:off x="2050920" y="981000"/>
            <a:ext cx="5040360" cy="432000"/>
          </a:xfrm>
          <a:prstGeom prst="pie">
            <a:avLst/>
          </a:prstGeom>
          <a:solidFill>
            <a:srgbClr val="afbf3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EXTUALIZ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2709720"/>
            <a:ext cx="1800360" cy="1465560"/>
          </a:xfrm>
          <a:prstGeom prst="rightArrowCallout">
            <a:avLst>
              <a:gd name="adj1" fmla="val 24873"/>
              <a:gd name="adj2" fmla="val 27287"/>
              <a:gd name="adj3" fmla="val 12154"/>
              <a:gd name="adj4" fmla="val 85153"/>
            </a:avLst>
          </a:prstGeom>
          <a:solidFill>
            <a:srgbClr val="f8f8f8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2003. Proyecto Universidad/Empresa (UPV-MD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1844640"/>
            <a:ext cx="358920" cy="3297240"/>
          </a:xfrm>
          <a:custGeom>
            <a:avLst/>
            <a:gdLst>
              <a:gd name="textAreaLeft" fmla="*/ 229320 w 358920"/>
              <a:gd name="textAreaRight" fmla="*/ 359280 w 358920"/>
              <a:gd name="textAreaTop" fmla="*/ 85680 h 3297240"/>
              <a:gd name="textAreaBottom" fmla="*/ 3211560 h 329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1187280" y="836640"/>
            <a:ext cx="7561440" cy="2663280"/>
            <a:chOff x="1187280" y="836640"/>
            <a:chExt cx="7561440" cy="2663280"/>
          </a:xfrm>
        </p:grpSpPr>
        <p:sp>
          <p:nvSpPr>
            <p:cNvPr id="166" name=""/>
            <p:cNvSpPr/>
            <p:nvPr/>
          </p:nvSpPr>
          <p:spPr>
            <a:xfrm flipV="1">
              <a:off x="8748720" y="836640"/>
              <a:ext cx="0" cy="26632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87280" y="836640"/>
              <a:ext cx="756144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 flipH="1">
            <a:off x="468360" y="3284640"/>
            <a:ext cx="1440" cy="25207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459640" y="5273640"/>
            <a:ext cx="720720" cy="1584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227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1268280"/>
            <a:ext cx="813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26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¿quienes som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484360" y="1915920"/>
            <a:ext cx="6120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salud como derecho constitucional (LGS1986): la asistencia sanitaria se extenderá a toda la población. </a:t>
            </a:r>
            <a:r>
              <a:rPr b="0" lang="es-ES" sz="2100" spc="-1" strike="noStrike">
                <a:solidFill>
                  <a:srgbClr val="808080"/>
                </a:solidFill>
                <a:latin typeface="Arial"/>
              </a:rPr>
              <a:t>LEY DE EXTRANJERÍA 4/2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660066"/>
                </a:solidFill>
                <a:latin typeface="Arial"/>
              </a:rPr>
              <a:t>EQUIDAD EN SALUD: </a:t>
            </a:r>
            <a:r>
              <a:rPr b="0" lang="es-ES" sz="2100" spc="-1" strike="noStrike">
                <a:solidFill>
                  <a:srgbClr val="660066"/>
                </a:solidFill>
                <a:latin typeface="Arial"/>
              </a:rPr>
              <a:t>Principio del S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ccesibili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ceptabili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2050920" y="1125360"/>
            <a:ext cx="5040360" cy="432000"/>
          </a:xfrm>
          <a:prstGeom prst="pie">
            <a:avLst/>
          </a:prstGeom>
          <a:solidFill>
            <a:srgbClr val="afbf3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EXTUALIZ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2781360"/>
            <a:ext cx="1621080" cy="1739880"/>
          </a:xfrm>
          <a:prstGeom prst="rightArrowCallout">
            <a:avLst>
              <a:gd name="adj1" fmla="val 26695"/>
              <a:gd name="adj2" fmla="val 29287"/>
              <a:gd name="adj3" fmla="val 9894"/>
              <a:gd name="adj4" fmla="val 85153"/>
            </a:avLst>
          </a:prstGeom>
          <a:solidFill>
            <a:srgbClr val="f8f8f8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2003. Proyecto Universidad/Empresa (UPV-MD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1916280"/>
            <a:ext cx="358920" cy="3297240"/>
          </a:xfrm>
          <a:custGeom>
            <a:avLst/>
            <a:gdLst>
              <a:gd name="textAreaLeft" fmla="*/ 229320 w 358920"/>
              <a:gd name="textAreaRight" fmla="*/ 359280 w 358920"/>
              <a:gd name="textAreaTop" fmla="*/ 85680 h 3297240"/>
              <a:gd name="textAreaBottom" fmla="*/ 3211560 h 329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5805360"/>
            <a:ext cx="61927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3141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¿qué hacem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765000"/>
            <a:ext cx="756144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ocument"/>
          <p:cNvSpPr/>
          <p:nvPr/>
        </p:nvSpPr>
        <p:spPr>
          <a:xfrm>
            <a:off x="1979640" y="1052640"/>
            <a:ext cx="5040360" cy="503280"/>
          </a:xfrm>
          <a:prstGeom prst="pi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9d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AS DE 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936720" y="2060280"/>
            <a:ext cx="1440" cy="1035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38160" y="2060640"/>
            <a:ext cx="70549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65800" y="2060280"/>
            <a:ext cx="1440" cy="1035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991640" y="2060280"/>
            <a:ext cx="1440" cy="1035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3068640"/>
            <a:ext cx="1871640" cy="1191240"/>
          </a:xfrm>
          <a:prstGeom prst="rect">
            <a:avLst/>
          </a:prstGeom>
          <a:solidFill>
            <a:srgbClr val="80808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A SA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43640" y="3036960"/>
            <a:ext cx="2521080" cy="1922760"/>
          </a:xfrm>
          <a:prstGeom prst="rect">
            <a:avLst/>
          </a:prstGeom>
          <a:solidFill>
            <a:srgbClr val="80808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PROGRAMAS DE PREVENCIÓN Y PROMOCIÓN DE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0360" y="3036960"/>
            <a:ext cx="3095640" cy="1557000"/>
          </a:xfrm>
          <a:prstGeom prst="rect">
            <a:avLst/>
          </a:prstGeom>
          <a:solidFill>
            <a:srgbClr val="80808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IZACIÓN DE LA SITUACIÓN DE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8000" y="2525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¿qué hacem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00000" y="765000"/>
            <a:ext cx="756144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Document"/>
          <p:cNvSpPr/>
          <p:nvPr/>
        </p:nvSpPr>
        <p:spPr>
          <a:xfrm>
            <a:off x="1908000" y="836640"/>
            <a:ext cx="5040360" cy="431640"/>
          </a:xfrm>
          <a:prstGeom prst="pi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9d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AS DE 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3080" y="6264360"/>
            <a:ext cx="8820000" cy="368280"/>
          </a:xfrm>
          <a:prstGeom prst="rect">
            <a:avLst/>
          </a:prstGeom>
          <a:solidFill>
            <a:srgbClr val="808080"/>
          </a:solidFill>
          <a:ln w="381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MAPA SANITARIO DE LA  POBLACIÓN INMIGRADA EN  EL PAÍS VA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4032360" cy="4537080"/>
          </a:xfrm>
          <a:prstGeom prst="rect">
            <a:avLst/>
          </a:prstGeom>
          <a:ln w="0">
            <a:noFill/>
          </a:ln>
        </p:spPr>
      </p:pic>
      <p:sp>
        <p:nvSpPr>
          <p:cNvPr id="195" name="Document"/>
          <p:cNvSpPr/>
          <p:nvPr/>
        </p:nvSpPr>
        <p:spPr>
          <a:xfrm>
            <a:off x="5148360" y="1916280"/>
            <a:ext cx="3456000" cy="3025440"/>
          </a:xfrm>
          <a:prstGeom prst="pie">
            <a:avLst/>
          </a:prstGeom>
          <a:solidFill>
            <a:srgbClr val="fee66e"/>
          </a:solidFill>
          <a:ln w="9360">
            <a:solidFill>
              <a:srgbClr val="afbf39"/>
            </a:solidFill>
            <a:miter/>
          </a:ln>
          <a:effectLst>
            <a:outerShdw dist="107932" dir="2700000" blurRad="0" rotWithShape="0">
              <a:srgbClr val="afbf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ción sobre las características de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blación asignada en las Áreas, Comarcas, ZBS y UAP de la CA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08000" y="2525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00000" y="765000"/>
            <a:ext cx="756144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Document"/>
          <p:cNvSpPr/>
          <p:nvPr/>
        </p:nvSpPr>
        <p:spPr>
          <a:xfrm>
            <a:off x="1908000" y="836640"/>
            <a:ext cx="5040360" cy="431640"/>
          </a:xfrm>
          <a:prstGeom prst="pi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9d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AS DE 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080" y="6264360"/>
            <a:ext cx="9070920" cy="353160"/>
          </a:xfrm>
          <a:prstGeom prst="rect">
            <a:avLst/>
          </a:prstGeom>
          <a:solidFill>
            <a:srgbClr val="808080"/>
          </a:solidFill>
          <a:ln w="381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MONITORIZACIÓN DE  LA SITUACIÓN DE SALUD EN LOS INMIGRANTES EUSKAD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Document"/>
          <p:cNvSpPr/>
          <p:nvPr/>
        </p:nvSpPr>
        <p:spPr>
          <a:xfrm>
            <a:off x="3132000" y="1700280"/>
            <a:ext cx="2664000" cy="3241440"/>
          </a:xfrm>
          <a:prstGeom prst="pie">
            <a:avLst/>
          </a:prstGeom>
          <a:solidFill>
            <a:srgbClr val="fee66e"/>
          </a:solidFill>
          <a:ln w="9360">
            <a:solidFill>
              <a:srgbClr val="afbf39"/>
            </a:solidFill>
            <a:miter/>
          </a:ln>
          <a:effectLst>
            <a:outerShdw dist="107932" dir="2700000" blurRad="0" rotWithShape="0">
              <a:srgbClr val="afbf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ar las tendencias en la salud y los principales grupos de riesgo con respecto al acceso a los servicios de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2881440" cy="4319640"/>
          </a:xfrm>
          <a:prstGeom prst="rect">
            <a:avLst/>
          </a:prstGeom>
          <a:ln w="9360">
            <a:solidFill>
              <a:srgbClr val="336699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12000" y="1557360"/>
            <a:ext cx="2952720" cy="4392720"/>
          </a:xfrm>
          <a:prstGeom prst="rect">
            <a:avLst/>
          </a:prstGeom>
          <a:ln w="9360">
            <a:solidFill>
              <a:srgbClr val="336699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61128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¿qué hacem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08000" y="2525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00000" y="765000"/>
            <a:ext cx="756144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Document"/>
          <p:cNvSpPr/>
          <p:nvPr/>
        </p:nvSpPr>
        <p:spPr>
          <a:xfrm>
            <a:off x="1908000" y="836640"/>
            <a:ext cx="5040360" cy="431640"/>
          </a:xfrm>
          <a:prstGeom prst="pi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9d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AS DE 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080" y="6264360"/>
            <a:ext cx="8820000" cy="368280"/>
          </a:xfrm>
          <a:prstGeom prst="rect">
            <a:avLst/>
          </a:prstGeom>
          <a:solidFill>
            <a:srgbClr val="808080"/>
          </a:solidFill>
          <a:ln w="381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PROGRAMAS DE PREVENCIÓN Y PROMOCIÓN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Document"/>
          <p:cNvSpPr/>
          <p:nvPr/>
        </p:nvSpPr>
        <p:spPr>
          <a:xfrm>
            <a:off x="4716360" y="1916280"/>
            <a:ext cx="3527640" cy="3313080"/>
          </a:xfrm>
          <a:prstGeom prst="pie">
            <a:avLst/>
          </a:prstGeom>
          <a:solidFill>
            <a:srgbClr val="fee66e"/>
          </a:solidFill>
          <a:ln w="9360">
            <a:solidFill>
              <a:srgbClr val="afbf39"/>
            </a:solidFill>
            <a:miter/>
          </a:ln>
          <a:effectLst>
            <a:outerShdw dist="107932" dir="2700000" blurRad="0" rotWithShape="0">
              <a:srgbClr val="afbf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ar los contextos culturales y psicológicos en los grupos de inmigrantes sobre: determinantes de salud, formas de expresión de la enfermedad y suministros de cuidados a los pac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816360" cy="432108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61128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¿qué hacem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900000" y="836640"/>
            <a:ext cx="7919640" cy="2663280"/>
            <a:chOff x="900000" y="836640"/>
            <a:chExt cx="7919640" cy="2663280"/>
          </a:xfrm>
        </p:grpSpPr>
        <p:sp>
          <p:nvSpPr>
            <p:cNvPr id="212" name=""/>
            <p:cNvSpPr/>
            <p:nvPr/>
          </p:nvSpPr>
          <p:spPr>
            <a:xfrm flipV="1">
              <a:off x="8819640" y="836640"/>
              <a:ext cx="0" cy="26632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00000" y="836640"/>
              <a:ext cx="791964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 flipH="1">
            <a:off x="466200" y="3284640"/>
            <a:ext cx="1800" cy="25207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26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¿dónde estamos aho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Document"/>
          <p:cNvSpPr/>
          <p:nvPr/>
        </p:nvSpPr>
        <p:spPr>
          <a:xfrm>
            <a:off x="5508720" y="1197000"/>
            <a:ext cx="3095640" cy="1224000"/>
          </a:xfrm>
          <a:prstGeom prst="pie">
            <a:avLst/>
          </a:prstGeom>
          <a:solidFill>
            <a:srgbClr val="d7e09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9d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ER ACCESO AL SISTEMA NO GARANTIZA LA EQ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Document"/>
          <p:cNvSpPr/>
          <p:nvPr/>
        </p:nvSpPr>
        <p:spPr>
          <a:xfrm>
            <a:off x="684360" y="1197000"/>
            <a:ext cx="3671640" cy="1152360"/>
          </a:xfrm>
          <a:prstGeom prst="pie">
            <a:avLst/>
          </a:prstGeom>
          <a:solidFill>
            <a:srgbClr val="d7e09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9d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ILIDAD EN LA PRESIÓN ASISTENCIAL: EN NUMERO Y ORIGEN GEO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12000" y="2565360"/>
            <a:ext cx="2663640" cy="974160"/>
          </a:xfrm>
          <a:prstGeom prst="rect">
            <a:avLst/>
          </a:prstGeom>
          <a:solidFill>
            <a:srgbClr val="f8f8f8"/>
          </a:solidFill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rrer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lturales, idioma, socioeconó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42920" y="3214800"/>
            <a:ext cx="3313080" cy="916920"/>
          </a:xfrm>
          <a:prstGeom prst="rect">
            <a:avLst/>
          </a:prstGeom>
          <a:solidFill>
            <a:srgbClr val="f8f8f8"/>
          </a:solidFill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ción en atención a la diversidad del personal que trabaja en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3080" y="6264360"/>
            <a:ext cx="8820000" cy="368280"/>
          </a:xfrm>
          <a:prstGeom prst="rect">
            <a:avLst/>
          </a:prstGeom>
          <a:solidFill>
            <a:srgbClr val="808080"/>
          </a:solidFill>
          <a:ln w="381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MAPA SANITARIO DE LA  POBLACIÓN INMIGRADA EN  EL PAÍS VA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8459640" y="5273640"/>
            <a:ext cx="720720" cy="1584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042920" y="2565360"/>
            <a:ext cx="3313080" cy="642600"/>
          </a:xfrm>
          <a:prstGeom prst="rect">
            <a:avLst/>
          </a:prstGeom>
          <a:solidFill>
            <a:srgbClr val="f8f8f8"/>
          </a:solidFill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ignar recursos según  las neces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42920" y="4100400"/>
            <a:ext cx="3313080" cy="1191240"/>
          </a:xfrm>
          <a:prstGeom prst="rect">
            <a:avLst/>
          </a:prstGeom>
          <a:solidFill>
            <a:srgbClr val="f8f8f8"/>
          </a:solidFill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ación de los contenidos curriculares en especialidades sanitarias y formación de postg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8360" y="5805360"/>
            <a:ext cx="77040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06:19:44Z</dcterms:created>
  <dc:creator>Elena</dc:creator>
  <dc:description/>
  <dc:language>en-US</dc:language>
  <cp:lastModifiedBy>Elena</cp:lastModifiedBy>
  <dcterms:modified xsi:type="dcterms:W3CDTF">2011-10-26T06:57:05Z</dcterms:modified>
  <cp:revision>246</cp:revision>
  <dc:subject/>
  <dc:title>International workso</dc:title>
</cp:coreProperties>
</file>